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2407-A75B-4C7A-A3FF-50A4278A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B34-8B36-4B61-8F85-3416080CC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5F82-4795-4344-AD1C-87ED42733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231E-88E3-456F-B16C-EC687603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D182-44A9-4726-AC5F-F078C0270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4601C-4F5A-47F4-80FC-2C35AF20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F603-09F4-430D-B9EC-3B44C6B0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A28E9-3AFD-48FC-AC5A-3349EDE3A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F3B71-E05B-45B9-AF35-FEC80E1F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BBFA-D17D-4971-BE14-F1542D54E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44F47-7683-40DF-9ED4-16B52BF0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01B-B7B6-4989-AFEB-0D26BA869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FC0B2-2323-47EF-B51A-5CD71320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B1FED-20A9-46C5-B03E-3BE905CC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54EE-CDC5-471F-A95F-A599D7C29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69E0F-E79F-4098-BAC0-EEE89AF47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8C82-CF9D-42D1-8F2E-060BAC91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0B0B28-FFFA-4688-A585-4508C4013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E970-A210-4D9A-9254-5C1F1E2D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0DBDF-FBE9-4341-AE91-9A717F23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A2013-1A36-4A47-AA82-501329AA9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F8811-63B9-4F47-AAB2-0A8FEB5B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530-D574-430E-85F4-0CFE5F6FF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80E33-DD74-42C9-8909-73DAC86E2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738BA-6A5E-44E2-9F3F-BF1FFBC31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5B00E5-DF56-421E-8100-7E7B1006B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55CB5-F73A-4C6C-A281-31148FFC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C321B-F95D-4BAE-A38C-D7A1BC990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9D617-C353-4493-958C-C0ABED221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74E9D4-86D6-4789-A8B9-3704E078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2FB9C1-5060-4465-98B6-F90E90650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E669F-8E49-42BE-B282-EC1337B00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5AE3A-200B-497E-9CA9-F336DFD2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2886-35AD-475F-9AE1-AD07555A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E5110-608C-41A9-BAD5-DD0A61A7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778DE-B62C-464B-82B2-B4869E9D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C87F-1C07-41BE-9724-793EB3320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E66CA8-B2E7-4405-9101-FF86A0B0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A6F5-B2B5-4137-9280-063BC451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A02E6-74B8-4CA6-8438-6BFC5D68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4964A-8EA4-467C-83BC-7131ACE2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622D2-4D07-4910-B2AE-6CA83D9F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13A57-0A91-4E7E-8353-DBC919FF9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EC84A-C5D5-44AD-B0BC-708269CF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2E95C-45D4-45F9-80A5-AFC9FDDE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70816-03FB-43B5-BEEB-7ADDD478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F03F9-9928-4C93-9401-288AB26D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9A507-A511-418D-92FE-B4B775BD5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0389B-BF16-4114-BF74-073926092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535158-1519-444F-88F6-6E3A95B6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87A4F-5187-4282-9F66-E2A771C9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5A5C3-71BD-4CD4-9AB2-8C4D7C39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ADDDE-F8E3-49D0-B44E-19262581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2EEE4-DBD5-4AE3-98FC-7D97753AA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EE1BDD-1704-4326-94F0-4B34555FC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817B-DC85-4BB6-82DB-BD0CB964C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92A059-9E31-4657-B488-27818048E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EB2C5D-7FDE-431E-B6CA-151821A18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B5FD5E-2B20-43D4-BB28-9B13883A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71BB5A-4FFE-48F6-A5E6-98D9BF5F0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072DD4-C063-4F27-B3E8-712A1A9E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61397-EE28-4379-A746-07F05DCB0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11CD2-C600-4AB9-BE91-39585F9B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605EA-133F-4E7E-8383-66B83E5F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A0DEAB-A82E-4044-AE35-05AC76EA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1FA532-AE63-42DF-9E41-07DAEB8A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5709-8959-40BF-9780-E1C7BC91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2C954-0310-4217-9185-19DA95186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6ED551-375E-49DA-988A-B2A4B3EA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B222-C6BE-4046-B446-DB3C1603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E7F2C5-11B1-4F57-8034-CE443AB2D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34A6E-20B1-4BC2-B3A4-84BD575B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CF68FA-12C7-4A1F-95E2-C9EDE9136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0D093F-9B13-44B2-B4A9-39D8DF91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75808-F52C-4F51-B95A-955C2D483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B46B1-DA5C-4288-AD22-18609ECE3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E8EE0E-D4FB-4B81-B94D-0829587E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D39F-E189-427C-8B5A-7C7906FD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F1D0B-4B75-4E8E-AECE-CA88AD60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86BB3-8D89-446C-97F8-FC139426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93A6AA-3F15-44D0-B039-074599D0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47F2A-4548-4ACD-920B-E349DD601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AD962-8A09-4D0C-8AFD-51BE1E34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D2A7B-9E16-4A75-B665-F4B21643FB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3DB5F-E4C8-4FC6-B932-7A82F7A9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B5DB2-D3B4-472A-92EF-02E57389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6906AC-EA75-456E-9AC2-76C6298D1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FE074-C74B-4400-9547-057921C44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95B-0E2B-41F5-9AF5-8A494FEF8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342720" y="202680"/>
            <a:ext cx="61722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972574-CB88-45D9-A043-0B214619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7AB9D6-D808-4091-A0BE-2CCC9731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E0CA24-6191-4DAC-90D8-A51B5CF8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EFE17-7DE7-4DBA-8A54-E55A4BDC0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42720" y="5045040"/>
            <a:ext cx="6172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4AAAA7-CAE2-4380-96BB-1AB72B7D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505320" y="162540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3427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3505320" y="5045040"/>
            <a:ext cx="301176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FC7C6C-78D9-4191-9936-AF3B53194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4272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42964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16560" y="162540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34272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42964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4516560" y="5045040"/>
            <a:ext cx="1987200" cy="312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9E36B1-5EA8-4679-BD39-923BD69E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FD1EA-0AF3-4864-8CB4-982C868810E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27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28"/>
          <p:cNvSpPr/>
          <p:nvPr/>
        </p:nvSpPr>
        <p:spPr>
          <a:xfrm>
            <a:off x="343080" y="152388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Isosceles Triangle 9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677880" y="4863960"/>
            <a:ext cx="5486400" cy="170676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85800" y="6730920"/>
            <a:ext cx="5486400" cy="914400"/>
          </a:xfrm>
          <a:prstGeom prst="rect">
            <a:avLst/>
          </a:prstGeom>
          <a:noFill/>
          <a:ln cap="rnd" w="6480">
            <a:solidFill>
              <a:srgbClr val="9fb8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77880" y="4863960"/>
            <a:ext cx="171360" cy="17067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85800" y="6730920"/>
            <a:ext cx="171360" cy="914400"/>
          </a:xfrm>
          <a:prstGeom prst="rect">
            <a:avLst/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800240" y="847404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172960" y="8474040"/>
            <a:ext cx="260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912960" y="8474040"/>
            <a:ext cx="9144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2CDCB-ECD2-40E3-A69C-0B3101B56E5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685800" y="3759120"/>
            <a:ext cx="5486400" cy="1706760"/>
          </a:xfrm>
          <a:prstGeom prst="rect">
            <a:avLst/>
          </a:prstGeom>
          <a:noFill/>
          <a:ln cap="rnd" w="6480">
            <a:solidFill>
              <a:srgbClr val="727c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685800" y="3759120"/>
            <a:ext cx="171360" cy="170676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800240" y="8474040"/>
            <a:ext cx="17146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172960" y="8474040"/>
            <a:ext cx="26067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01360" y="8474040"/>
            <a:ext cx="11415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00C5-715D-4CD9-B668-4890D53A1E4C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traight Connector 27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28"/>
          <p:cNvSpPr/>
          <p:nvPr/>
        </p:nvSpPr>
        <p:spPr>
          <a:xfrm>
            <a:off x="343080" y="152388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Isosceles Triangle 9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Isosceles Triangle 10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0590-CF88-4586-BDC0-B36A6F4F20E2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traight Connector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sosceles Triangle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8206-231B-4B91-8894-1D7774743581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Straight Connector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11"/>
          <p:cNvSpPr/>
          <p:nvPr/>
        </p:nvSpPr>
        <p:spPr>
          <a:xfrm>
            <a:off x="4633920" y="409680"/>
            <a:ext cx="0" cy="804528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Isosceles Triangle 12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3D9A7-BCCC-4A51-AA36-CA74C1BB655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6465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traight Connector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Isosceles Triangle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12"/>
          <p:cNvSpPr/>
          <p:nvPr/>
        </p:nvSpPr>
        <p:spPr>
          <a:xfrm>
            <a:off x="343080" y="668160"/>
            <a:ext cx="136440" cy="914400"/>
          </a:xfrm>
          <a:prstGeom prst="rect">
            <a:avLst/>
          </a:prstGeom>
          <a:solidFill>
            <a:srgbClr val="727c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de9ec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dde9ec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e9ec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A845B-90AF-44D6-A0D6-078E637E9257}" type="slidenum">
              <a:rPr b="0" lang="en-US" sz="1400" spc="-1" strike="noStrike">
                <a:solidFill>
                  <a:srgbClr val="dde9ec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traight Connector 10"/>
          <p:cNvSpPr/>
          <p:nvPr/>
        </p:nvSpPr>
        <p:spPr>
          <a:xfrm>
            <a:off x="343080" y="8470800"/>
            <a:ext cx="6172200" cy="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Isosceles Triangle 11"/>
          <p:cNvSpPr/>
          <p:nvPr/>
        </p:nvSpPr>
        <p:spPr>
          <a:xfrm rot="5400000">
            <a:off x="258120" y="8658000"/>
            <a:ext cx="255600" cy="90360"/>
          </a:xfrm>
          <a:prstGeom prst="triangle">
            <a:avLst>
              <a:gd name="adj" fmla="val 50000"/>
            </a:avLst>
          </a:prstGeom>
          <a:solidFill>
            <a:srgbClr val="9fb8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12"/>
          <p:cNvSpPr/>
          <p:nvPr/>
        </p:nvSpPr>
        <p:spPr>
          <a:xfrm>
            <a:off x="4916520" y="368280"/>
            <a:ext cx="0" cy="7802640"/>
          </a:xfrm>
          <a:prstGeom prst="line">
            <a:avLst/>
          </a:prstGeom>
          <a:ln w="9360">
            <a:solidFill>
              <a:srgbClr val="9fb8c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342720" y="1625400"/>
            <a:ext cx="6172200" cy="65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b8cd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a2b4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b8cd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4800240" y="8475480"/>
            <a:ext cx="17161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173320" y="8475480"/>
            <a:ext cx="26287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458640" y="8475480"/>
            <a:ext cx="148608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4653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C62C-565B-4DCF-B4F6-5BA31F728227}" type="slidenum">
              <a:rPr b="0" lang="en-US" sz="1400" spc="-1" strike="noStrike">
                <a:solidFill>
                  <a:srgbClr val="464653"/>
                </a:solidFill>
                <a:latin typeface="Gill Sans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5181120"/>
            <a:ext cx="51436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ookman Old Style"/>
              </a:rPr>
              <a:t>This I Believe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914400" y="6832440"/>
            <a:ext cx="51436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http://www.npr.org/series/4538138/this-i-believ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653"/>
                </a:solidFill>
                <a:latin typeface="Gill Sans MT"/>
              </a:rPr>
              <a:t>http://thisibelieve.org/guidelines/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do I believe about reading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42720" y="1625400"/>
            <a:ext cx="61722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there are life lessons in fiction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in the power of independent rea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in the power of guiding students in reading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the amount of reading students do matters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in the knowledge that various text types offer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I believe reading is an invaluable life skill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NCTE Beliefs About Writing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42720" y="1625400"/>
            <a:ext cx="61722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In order to make sure that all individual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ave access to the personal pleasures and intellectual benefits of full literacy, NCTE believes that our society and our schools must provide students with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to a wide range of texts that mirror the range of students' abilities and interests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mple time to read a wide range of materials, from the very simple to the very challenging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achers who help them develop an extensive repertoire of skills and strategies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portunities to learn how reading, writing, speaking, and listening support each other;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access to the literacy skills needed in a technologically advanced society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2640" indent="-2426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www.ncte.org/positions/statements/positiononreading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3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3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3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3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This I Believe…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42720" y="1625400"/>
            <a:ext cx="61722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www.npr.org/templates/story/story.php?storyId=102649267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http://www.npr.org/templates/story/story.php?storyId=101831449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42720" y="202680"/>
            <a:ext cx="6172200" cy="1320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53"/>
                </a:solidFill>
                <a:latin typeface="Bookman Old Style"/>
              </a:rPr>
              <a:t>What are your beliefs ?</a:t>
            </a:r>
            <a:endParaRPr b="0" lang="en-US" sz="3200" spc="-1" strike="noStrike">
              <a:solidFill>
                <a:srgbClr val="464653"/>
              </a:solidFill>
              <a:latin typeface="Bookman Old Style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342720" y="1625400"/>
            <a:ext cx="6172200" cy="658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s I Believe…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727ca3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8T01:30:50Z</dcterms:created>
  <dc:creator>Kathy</dc:creator>
  <dc:description/>
  <dc:language>en-US</dc:language>
  <cp:lastModifiedBy>jadams82</cp:lastModifiedBy>
  <dcterms:modified xsi:type="dcterms:W3CDTF">2013-01-20T16:19:06Z</dcterms:modified>
  <cp:revision>28</cp:revision>
  <dc:subject/>
  <dc:title>Assessment</dc:title>
</cp:coreProperties>
</file>